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C08-0439-4D7F-B8E4-88B7F68C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2C8-BC64-44B8-AADC-0917184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D6B-25FE-45A5-A6FC-7AA0C888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FAD-4420-4325-83B1-BF80F899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D5C9-CBBC-4545-8473-62AF44BD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72E6-5481-4023-8A82-A54C555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1E2F-6D3F-46D3-AF8A-3A1E45F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617E-E7E6-4B2E-A092-C40FC40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12CE-751A-4C88-B099-0DA43F3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C0FE-24B4-429E-A178-FC9F097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9479-5E59-4B70-B1A6-4C20A17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D57-2CC6-4E33-8D4E-9616099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F024-3121-4E28-BB39-FD15C37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8937-13D8-47D4-9D2D-D22688A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C14C-90AF-4487-95AB-E4DB2C5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EC0D-E83C-4339-8698-BA227D1D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EAFA-0AAB-4C87-AAE4-53BC52FC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4A8-1544-4E3E-89D1-AEC61C1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4B3-ECB3-45F7-9AA1-D28178EF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028-D5D3-440F-A6B8-B200969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C76-79AA-4484-84F4-6E49BCD7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E2D-928E-4432-A340-564EEDF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8D6-F8D0-499E-B3A3-884E625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043-59F2-4388-B250-4281648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C77E-7EB9-4806-87B3-1BCE4388B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2A0-97D3-48DB-9AB4-6776C99E6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NERJİ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   VE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    ÇEŞİTLERİ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ndaki fotoğ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otoğrafta gü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eşin ısısın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rarlanmak 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in panell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lmuşu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KTRİK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enerji türü karanlık bir odayı aydınlata bilecek bir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ömür,petrol doğal gaz gibi yakıtların yakılmasıyla ısı enerjisi ortaya çıkmakta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e edilen ısı enerjisi ilk önce türbinler yardımıyla mekanik enerjiye,daha sonrada jeneratörler yardımıyla elektr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erjisine dönüştürül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vlerimizde kışın ısınmak,mutfak ve banyoda sıcak su elde ederiz.Yemek pişirmek için sıkça faydalın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ektrik yünlemesi sebebiyle ortaya çıkan enerji türüd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lenmiş partiküllerin hareket enerjis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ÜKLEER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Fisyon veya fizyon sonucu meydana ge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ükleer santrellerden bu şekilde elde ed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ndaki resi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 su enerjis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nin gelgit olayı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an yararlanıl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ıştır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erji kısaca iş yapabilme yeteneğidir. Tıpkı uzunluklar gibi skaler büyüklüktür. Toplamda 8 ana enerji çeşidi vardır. Bunlar potansiyel, kinetik, ısı, ışık, elektrik, kimyasal, nükleer ve ses enerjisidir. Unutmamamız gereken ise hiçbir enerjinin kaybolmadığıdır. Olsa olsa başka bir enerji türü olmuş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S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in enerjisi olduğunu nasıl anlayabiliriz?Şu şekilde açıklanab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ın kırılması.Hani o yüksek şiddetteki çığlıkların kırdığı camları anımsamayı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lar sesin enerjisi yüzünden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lin kinetik enerjisi ses ve biraz ısı enerjisine dönüşü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AD=</a:t>
            </a:r>
            <a:r>
              <a:rPr b="0" lang="tr-TR" sz="4400" spc="-1" strike="noStrike">
                <a:solidFill>
                  <a:srgbClr val="ffffff"/>
                </a:solidFill>
                <a:latin typeface="Arial"/>
              </a:rPr>
              <a:t>FERİD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SOYAD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AS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0KUL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RESSAM ŞEVKET D.İ.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a3bf"/>
                </a:solidFill>
                <a:latin typeface="Arial"/>
              </a:rPr>
              <a:t>SINIF=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7/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ANSİYEL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cismin konumu ve durumu ile ship olduğu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rilmiş,bir yayda havada duran bir cisimde ve iple tavandan asılı bir modelde potansiyel enerji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ısaca yüksekliği olan yada gerilmiş/sıkıştırmış tüm cisimlerde potansiyel enerji mevcutt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ER ÇEKİMİ POTANSİYEL ENERJ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 kütle bulunduğu yerden düşey konumdaki alt bir noktaya göre yüksekte ise, sahip olduğu enerjiye yer çekimi potansiyel enerji de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İNETİK ENERJ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tik enerjiye sahip olmak için bir cismin hareket ediyor olması lazı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ni kinetik enerji hızı olan enerji çeşid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lara örnek olarak;koşan çocuk,giden araba,topa vuran çocuk vb. şeyler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1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I ENERJİSİ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simlerin sıcaklık yönünden sahip oldukları enerji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caklığı yüksek yada düşük bütün maddeleri ısı enerjisi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rnek verecek olursak;ampul,elektrik sobası,jeotermal enerji,ısıtıcı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1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56:31Z</dcterms:created>
  <dc:creator>FeRiDuN aSlAn</dc:creator>
  <dc:description/>
  <dc:language>en-US</dc:language>
  <cp:lastModifiedBy>f.aslan</cp:lastModifiedBy>
  <dcterms:modified xsi:type="dcterms:W3CDTF">2011-01-13T05:39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